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77EE9-5780-4905-9B8D-EFC1C80A6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478F6-E0BF-436D-8452-C4201E05C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E3307-2000-4436-ADD9-E90AF47FA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3AFBA-66FB-4D7D-B5BB-E105AE053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49528-F50C-41E8-90C2-524C6EB50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8EE2D-987E-4802-BA0D-2637C3937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2B3CA-D692-4F86-ACFF-9C4E453B7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9952A-29FF-4979-AF05-F84F6AA86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6DFAD-F855-4079-9CB1-E22EE83BF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FA1AF-E733-455B-8F78-D16F1D7C4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64AC7-FED5-4AE4-AFC8-22F4725C2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FAB19-E715-4F47-9B08-7EF5A56A2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A392E-7441-4D86-A6A6-03CEA3687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9C081-9551-491C-80EB-A1314A5C1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F24E2-CD04-4E4D-A862-73A66029F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B8FD8-D7F4-4C42-A875-D5857F59F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E9D64-B861-4F68-80CA-C4B1AE6B7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B5A5F-9627-4C68-8FAD-E44980994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FA65C-AC60-4FCE-842D-33B4EF6CA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0E8B7-2E6A-4A43-9025-877144901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EAE39-50C6-4E0C-B6A0-6484A5173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02BDA-7395-44B2-A14E-48A3D629C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F3E5D-838B-400B-AEFC-7242D2627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21914-3AFE-4C91-BFC2-ACB537E02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-11160" y="1836720"/>
            <a:ext cx="2268720" cy="2709720"/>
          </a:xfrm>
          <a:prstGeom prst="pie">
            <a:avLst/>
          </a:pr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108000" y="15840"/>
            <a:ext cx="838080" cy="787320"/>
          </a:xfrm>
          <a:prstGeom prst="pie">
            <a:avLst/>
          </a:prstGeom>
          <a:gradFill rotWithShape="0">
            <a:gsLst>
              <a:gs pos="0">
                <a:srgbClr val="fcab40"/>
              </a:gs>
              <a:gs pos="100000">
                <a:srgbClr val="00007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1192320" y="353880"/>
            <a:ext cx="2266920" cy="2270160"/>
          </a:xfrm>
          <a:prstGeom prst="pie">
            <a:avLst/>
          </a:pr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" name="Freeform 5"/>
          <p:cNvSpPr/>
          <p:nvPr/>
        </p:nvSpPr>
        <p:spPr>
          <a:xfrm>
            <a:off x="2532240" y="1270080"/>
            <a:ext cx="3670200" cy="3671640"/>
          </a:xfrm>
          <a:prstGeom prst="pie">
            <a:avLst/>
          </a:pr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" name="Freeform 6"/>
          <p:cNvSpPr/>
          <p:nvPr/>
        </p:nvSpPr>
        <p:spPr>
          <a:xfrm>
            <a:off x="3240" y="4797360"/>
            <a:ext cx="3417840" cy="2097000"/>
          </a:xfrm>
          <a:prstGeom prst="pie">
            <a:avLst/>
          </a:pr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4494240" y="4425840"/>
            <a:ext cx="2263680" cy="2264040"/>
          </a:xfrm>
          <a:prstGeom prst="pie">
            <a:avLst/>
          </a:pr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" name="Freeform 8"/>
          <p:cNvSpPr/>
          <p:nvPr/>
        </p:nvSpPr>
        <p:spPr>
          <a:xfrm>
            <a:off x="5646600" y="487440"/>
            <a:ext cx="2928960" cy="2930400"/>
          </a:xfrm>
          <a:prstGeom prst="pie">
            <a:avLst/>
          </a:pr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7147080" y="2556000"/>
            <a:ext cx="2008080" cy="3997080"/>
          </a:xfrm>
          <a:prstGeom prst="pie">
            <a:avLst/>
          </a:pr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8" name="Picture 10" descr="C:\My Documents\bits\Facbanna.png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D4085-65D9-45F3-857D-BA9DBD3C8ECB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2"/>
          <p:cNvSpPr/>
          <p:nvPr/>
        </p:nvSpPr>
        <p:spPr>
          <a:xfrm>
            <a:off x="-11160" y="1836720"/>
            <a:ext cx="2268720" cy="2709720"/>
          </a:xfrm>
          <a:prstGeom prst="pie">
            <a:avLst/>
          </a:pr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1" name="Freeform 3"/>
          <p:cNvSpPr/>
          <p:nvPr/>
        </p:nvSpPr>
        <p:spPr>
          <a:xfrm>
            <a:off x="108000" y="15840"/>
            <a:ext cx="838080" cy="787320"/>
          </a:xfrm>
          <a:prstGeom prst="pie">
            <a:avLst/>
          </a:prstGeom>
          <a:gradFill rotWithShape="0">
            <a:gsLst>
              <a:gs pos="0">
                <a:srgbClr val="fcab40"/>
              </a:gs>
              <a:gs pos="100000">
                <a:srgbClr val="00007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2" name="Freeform 4"/>
          <p:cNvSpPr/>
          <p:nvPr/>
        </p:nvSpPr>
        <p:spPr>
          <a:xfrm>
            <a:off x="1192320" y="353880"/>
            <a:ext cx="2266920" cy="2270160"/>
          </a:xfrm>
          <a:prstGeom prst="pie">
            <a:avLst/>
          </a:pr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3" name="Freeform 5"/>
          <p:cNvSpPr/>
          <p:nvPr/>
        </p:nvSpPr>
        <p:spPr>
          <a:xfrm>
            <a:off x="2532240" y="1270080"/>
            <a:ext cx="3670200" cy="3671640"/>
          </a:xfrm>
          <a:prstGeom prst="pie">
            <a:avLst/>
          </a:pr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4" name="Freeform 6"/>
          <p:cNvSpPr/>
          <p:nvPr/>
        </p:nvSpPr>
        <p:spPr>
          <a:xfrm>
            <a:off x="3240" y="4797360"/>
            <a:ext cx="3417840" cy="2097000"/>
          </a:xfrm>
          <a:prstGeom prst="pie">
            <a:avLst/>
          </a:pr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5" name="Freeform 7"/>
          <p:cNvSpPr/>
          <p:nvPr/>
        </p:nvSpPr>
        <p:spPr>
          <a:xfrm>
            <a:off x="4494240" y="4425840"/>
            <a:ext cx="2263680" cy="2264040"/>
          </a:xfrm>
          <a:prstGeom prst="pie">
            <a:avLst/>
          </a:pr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6" name="Freeform 8"/>
          <p:cNvSpPr/>
          <p:nvPr/>
        </p:nvSpPr>
        <p:spPr>
          <a:xfrm>
            <a:off x="5646600" y="487440"/>
            <a:ext cx="2928960" cy="2930400"/>
          </a:xfrm>
          <a:prstGeom prst="pie">
            <a:avLst/>
          </a:pr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7" name="Freeform 9"/>
          <p:cNvSpPr/>
          <p:nvPr/>
        </p:nvSpPr>
        <p:spPr>
          <a:xfrm>
            <a:off x="7147080" y="2556000"/>
            <a:ext cx="2008080" cy="3997080"/>
          </a:xfrm>
          <a:prstGeom prst="pie">
            <a:avLst/>
          </a:pr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8" name="Freeform 10"/>
          <p:cNvSpPr/>
          <p:nvPr/>
        </p:nvSpPr>
        <p:spPr>
          <a:xfrm rot="16200000">
            <a:off x="3977280" y="-853200"/>
            <a:ext cx="1722600" cy="3429000"/>
          </a:xfrm>
          <a:prstGeom prst="pie">
            <a:avLst/>
          </a:pr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59" name="Picture 11" descr="C:\My Documents\bits\Facbanna.png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5F6C2-8666-4FB5-94C6-961BDA3F6103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057040"/>
            <a:ext cx="7848720" cy="15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bd189"/>
                </a:solidFill>
                <a:latin typeface="Arial"/>
              </a:rPr>
              <a:t>Contemporary Issues</a:t>
            </a:r>
            <a:br>
              <a:rPr sz="6000"/>
            </a:br>
            <a:endParaRPr b="0" lang="en-US" sz="6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838080" y="34286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-2674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Ms. Schmidt </a:t>
            </a:r>
            <a:endParaRPr b="0" lang="en-US" sz="5400" spc="-1" strike="noStrike">
              <a:solidFill>
                <a:srgbClr val="eaeaea"/>
              </a:solidFill>
              <a:latin typeface="Arial"/>
            </a:endParaRPr>
          </a:p>
          <a:p>
            <a:pPr marL="267480" indent="-2674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B.S. , M.L.S.</a:t>
            </a:r>
            <a:endParaRPr b="0" lang="en-US" sz="5400" spc="-1" strike="noStrike">
              <a:solidFill>
                <a:srgbClr val="eaeaea"/>
              </a:solidFill>
              <a:latin typeface="Arial"/>
            </a:endParaRPr>
          </a:p>
          <a:p>
            <a:pPr marL="267480" indent="-267480">
              <a:spcBef>
                <a:spcPts val="134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d189"/>
                </a:solidFill>
                <a:latin typeface="Arial"/>
              </a:rPr>
              <a:t>Contemporary Issues</a:t>
            </a:r>
            <a:br>
              <a:rPr sz="4800"/>
            </a:br>
            <a:r>
              <a:rPr b="1" lang="en-US" sz="4800" spc="-1" strike="noStrike">
                <a:solidFill>
                  <a:srgbClr val="ebd189"/>
                </a:solidFill>
                <a:latin typeface="Arial"/>
              </a:rPr>
              <a:t>Themes</a:t>
            </a:r>
            <a:endParaRPr b="0" lang="en-US" sz="48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10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"/>
              </a:rPr>
              <a:t>Media Literacy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0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"/>
              </a:rPr>
              <a:t>Effective Citizens &amp; The Political System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0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"/>
              </a:rPr>
              <a:t>Peace and Conflict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0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"/>
              </a:rPr>
              <a:t>Domestic Agenda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0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"/>
              </a:rPr>
              <a:t>Technology and Society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Focus Questions for Contemporary Issue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TextBox 2"/>
          <p:cNvSpPr/>
          <p:nvPr/>
        </p:nvSpPr>
        <p:spPr>
          <a:xfrm>
            <a:off x="1447920" y="1828800"/>
            <a:ext cx="76960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 Narrow"/>
              </a:rPr>
              <a:t>1. What are the implications of living in an increasingly interconnected global economy for the individual?  The U.S.? The rest of the world</a:t>
            </a:r>
            <a:endParaRPr b="0" lang="en-US" sz="4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Focus Questions for Contemporary Issue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TextBox 2"/>
          <p:cNvSpPr/>
          <p:nvPr/>
        </p:nvSpPr>
        <p:spPr>
          <a:xfrm>
            <a:off x="1523880" y="1752480"/>
            <a:ext cx="66294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 Narrow"/>
              </a:rPr>
              <a:t>2.  What are the pressing international conflicts and issues in the world today, and how can the past be used to increase our understanding about potential solutions</a:t>
            </a:r>
            <a:endParaRPr b="0" lang="en-US" sz="4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Focus Questions for Contemporary Issue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TextBox 2"/>
          <p:cNvSpPr/>
          <p:nvPr/>
        </p:nvSpPr>
        <p:spPr>
          <a:xfrm>
            <a:off x="1219320" y="1981080"/>
            <a:ext cx="739116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 Narrow"/>
              </a:rPr>
              <a:t>3.  How do societies, including the U.S. construct a foreign policy that reflects their goals, while at the same time balancing their needs with those of other nations</a:t>
            </a:r>
            <a:endParaRPr b="0" lang="en-US" sz="4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Focus Questions for Contemporary Issue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TextBox 2"/>
          <p:cNvSpPr/>
          <p:nvPr/>
        </p:nvSpPr>
        <p:spPr>
          <a:xfrm>
            <a:off x="1143000" y="2209680"/>
            <a:ext cx="716292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 Narrow"/>
              </a:rPr>
              <a:t>4.  What is the impact of cultural diversity in other  countries around the world, and how does it contribute to divisiveness and to opportunities for  cooperation</a:t>
            </a:r>
            <a:endParaRPr b="0" lang="en-US" sz="4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Focus Questions for Contemporary Issue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TextBox 2"/>
          <p:cNvSpPr/>
          <p:nvPr/>
        </p:nvSpPr>
        <p:spPr>
          <a:xfrm>
            <a:off x="1295280" y="2057400"/>
            <a:ext cx="71629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 Narrow"/>
              </a:rPr>
              <a:t>5.  How does geography influence societies around the world and how do geographic boundaries around the world diverge from cultural, racial, and ethnic realities?</a:t>
            </a:r>
            <a:endParaRPr b="0" lang="en-US" sz="4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Focus Questions for Contemporary Issue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TextBox 2"/>
          <p:cNvSpPr/>
          <p:nvPr/>
        </p:nvSpPr>
        <p:spPr>
          <a:xfrm>
            <a:off x="1295280" y="1828800"/>
            <a:ext cx="746784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 Narrow"/>
              </a:rPr>
              <a:t>6.  How can students access resources in order to make sense of the complexities of the modern world  and in order to make predictive conclusions?</a:t>
            </a:r>
            <a:endParaRPr b="0" lang="en-US" sz="4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1T12:56:09Z</dcterms:created>
  <dc:creator>C114</dc:creator>
  <dc:description/>
  <dc:language>en-US</dc:language>
  <cp:lastModifiedBy> </cp:lastModifiedBy>
  <dcterms:modified xsi:type="dcterms:W3CDTF">2008-01-22T17:58:18Z</dcterms:modified>
  <cp:revision>8</cp:revision>
  <dc:subject/>
  <dc:title>Contemporary Issues Themes</dc:title>
</cp:coreProperties>
</file>